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E22-E690-4760-9C12-C389960A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343-8242-45C0-92DB-D849C26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C23-8FDC-40CD-9B7C-4C0317BA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7E1-1964-4FFF-827D-509CCECD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2204-B662-4C29-B416-46A33971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8B9-D04D-4D41-AF9C-259A0C9E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355-71FE-47F2-9F51-36565B1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1C79-1FB8-415F-912B-F8C493B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BE21-B78F-4CFB-AA05-CAD4F4FD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F9A5-32CB-47CB-BD0A-D7272644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75C7-42D4-498E-8A16-C8A9AD8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D0E-10E5-441B-85DB-FE3A6D3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7003-261B-4B26-A766-8E9949F1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B0E9-0EE0-4D7F-B194-9415732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EAC7-B30B-493B-80F8-3DF2665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6B9A-E265-4979-9F53-6D84B391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87AB-5599-4021-AB66-62F09A88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B3D-93C6-40C4-8D25-E75C8A3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BA0-A31E-4061-AD47-D0DC358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7BC-8399-4741-880D-DFB9E31E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C1A-5638-4815-A799-552DFF99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725-E5C9-483D-B63C-CBD9AF9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32F-3F3E-4A9A-8D01-F522FC2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F3E-57A2-4C3B-B081-1534479B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F1B7-163C-48E8-B838-B62BF68EBE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DE3-5B33-4383-A211-2D1D2728DE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lon (19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were represented in the 1980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485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816360" cy="2849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2857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Baby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09-23T17:15:57Z</dcterms:modified>
  <cp:revision>2</cp:revision>
  <dc:subject/>
  <dc:title>Babylon (1980)</dc:title>
</cp:coreProperties>
</file>